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1A13-3C2D-4FF4-A2B3-F01664CC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591B-EC31-4AA5-A65A-64B824D8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3B62-3E59-41C4-9338-9B66943A3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C41D-C9E7-4160-A500-9E19573D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4794-1DA5-4C8F-B1B3-4DC1DE65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4DAC-4826-4606-9C24-C67EF903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EB13-7158-4FB0-B1A9-0C91C688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0187-F95B-4FA5-9184-1E6C4528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3851-EC44-4412-ADF6-AD17ABDD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7C4D-307A-4682-BBA6-FD8F36ED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12BE-03D9-496B-853D-EACB3D08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AF26-220A-4B42-9326-38BF07CA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57E8-EBDE-44CF-9B60-0FF309F75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LLEND  50TH                                      I.B.M.                                                I.B.M.                                     INNELLAN                                             INNELLAN                                   INNELLAN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NELLAN  150TH                                       INVERKIP                              INVERKIP  100TH                              KILMACOLM                                  KINGARTH                      KIRN  &amp;  HUNTERS  QUAY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0520" y="0"/>
            <a:ext cx="176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713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RN                                                       KIRN                                            KIRN                                          KIRN  100TH                                 LADY  ALICE                                LADY  ALICE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310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DY  ALICE  50TH                          LADY  ALICE  75TH                              PARKLEA                                 PARKLEA  50TH                          PORT  GLASGOW                           PORT  GLASGOW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121600" y="333360"/>
            <a:ext cx="85896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31800" y="1989000"/>
            <a:ext cx="1116000" cy="1097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289240" y="2060640"/>
            <a:ext cx="1079280" cy="1047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097600" y="191628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6608880" y="2060640"/>
            <a:ext cx="1079280" cy="1060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8193240" y="2349360"/>
            <a:ext cx="841320" cy="814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631800" y="3357720"/>
            <a:ext cx="1206360" cy="1376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3657600" y="3500280"/>
            <a:ext cx="1133640" cy="1266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2289240" y="3357720"/>
            <a:ext cx="1133280" cy="1412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5097600" y="3357720"/>
            <a:ext cx="1261800" cy="1361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6537240" y="357336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8048520" y="3645000"/>
            <a:ext cx="1079640" cy="1060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2216160" y="530064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631800" y="5084640"/>
            <a:ext cx="1133640" cy="1362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3657600" y="5373720"/>
            <a:ext cx="1079640" cy="1060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5168880" y="5373720"/>
            <a:ext cx="1042920" cy="1096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6608880" y="5300640"/>
            <a:ext cx="1042920" cy="1157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8048520" y="5229360"/>
            <a:ext cx="1024200" cy="1170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6681960" y="260280"/>
            <a:ext cx="914400" cy="1084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4881600" y="115920"/>
            <a:ext cx="1206360" cy="1316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3657600" y="260280"/>
            <a:ext cx="98748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3800520" y="2133720"/>
            <a:ext cx="911160" cy="1027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3"/>
          <a:stretch/>
        </p:blipFill>
        <p:spPr>
          <a:xfrm>
            <a:off x="704880" y="549360"/>
            <a:ext cx="1096920" cy="826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4"/>
          <a:stretch/>
        </p:blipFill>
        <p:spPr>
          <a:xfrm>
            <a:off x="2216160" y="189000"/>
            <a:ext cx="99864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8T09:38:52Z</dcterms:created>
  <dc:creator>JOHN YOUNG</dc:creator>
  <dc:description/>
  <dc:language>en-US</dc:language>
  <cp:lastModifiedBy>JY</cp:lastModifiedBy>
  <dcterms:modified xsi:type="dcterms:W3CDTF">2007-10-19T14:04:52Z</dcterms:modified>
  <cp:revision>33</cp:revision>
  <dc:subject/>
  <dc:title>No Slide Title</dc:title>
</cp:coreProperties>
</file>